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B737D-2E92-4106-B7D1-E1EE85275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BA7DC-77DC-4460-AEB6-D1EF824AD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FC3FD-D56E-471C-AC2F-DB8544517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B596-48F3-49C6-B7B8-EB5AE0D44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99cc"/>
              </a:solidFill>
              <a:latin typeface="Agilent TT C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500" spc="-1" strike="noStrike">
              <a:solidFill>
                <a:srgbClr val="0099cc"/>
              </a:solidFill>
              <a:latin typeface="Agilent TT C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0F20-5E1B-48FF-B99C-C2AF086AF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F23F0-8177-4053-8682-520E2BD9E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68D88-BF12-49EA-8B4E-6FDB3A700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7D6CF-CEE8-4A26-A4B9-B7B689465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5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34915-7540-4481-A5BB-90C9F52D9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B111D-6D2A-472B-B272-5317DDEB8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552A9-1FBA-4087-AA25-EFDF30D17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AF403-5E32-43BB-8380-908172B4E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826240" y="6234120"/>
            <a:ext cx="2266920" cy="473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609120" y="6552720"/>
            <a:ext cx="3086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gilent TT C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IBIS Open Forum, Tokyo, Japan 14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gilent TT Cond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 September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016400" y="6490800"/>
            <a:ext cx="165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gilent TT C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Page </a:t>
            </a:r>
            <a:fld id="{37581075-5E3A-4CB7-883D-A186EB4AC7E5}" type="slidenum"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gilent TT Cond"/>
              </a:rPr>
              <a:t>Click to edit the title text format</a:t>
            </a: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lvl="1" marL="1440">
              <a:lnSpc>
                <a:spcPct val="95000"/>
              </a:lnSpc>
              <a:spcAft>
                <a:spcPts val="1624"/>
              </a:spcAft>
              <a:buClr>
                <a:srgbClr val="000000"/>
              </a:buClr>
              <a:buFont typeface="Agilent TT 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lvl="2" marL="233280" indent="-230040">
              <a:lnSpc>
                <a:spcPct val="95000"/>
              </a:lnSpc>
              <a:spcAft>
                <a:spcPts val="1624"/>
              </a:spcAft>
              <a:buClr>
                <a:srgbClr val="000000"/>
              </a:buClr>
              <a:buFont typeface="Agilent TT 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lvl="3" marL="465120" indent="-230040">
              <a:lnSpc>
                <a:spcPct val="95000"/>
              </a:lnSpc>
              <a:spcAft>
                <a:spcPts val="1624"/>
              </a:spcAft>
              <a:buClr>
                <a:srgbClr val="000000"/>
              </a:buClr>
              <a:buFont typeface="Agilent TT 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lvl="4" marL="677880" indent="-211320">
              <a:lnSpc>
                <a:spcPct val="95000"/>
              </a:lnSpc>
              <a:spcAft>
                <a:spcPts val="1624"/>
              </a:spcAft>
              <a:buClr>
                <a:srgbClr val="000000"/>
              </a:buClr>
              <a:buFont typeface="Agilent TT 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lvl="5" marL="677880" indent="-211320">
              <a:lnSpc>
                <a:spcPct val="95000"/>
              </a:lnSpc>
              <a:spcAft>
                <a:spcPts val="1624"/>
              </a:spcAft>
              <a:buClr>
                <a:srgbClr val="000000"/>
              </a:buClr>
              <a:buFont typeface="Agilent TT 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lvl="6" marL="677880" indent="-211320">
              <a:lnSpc>
                <a:spcPct val="95000"/>
              </a:lnSpc>
              <a:spcAft>
                <a:spcPts val="1624"/>
              </a:spcAft>
              <a:buClr>
                <a:srgbClr val="000000"/>
              </a:buClr>
              <a:buFont typeface="Agilent TT 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0" y="6324480"/>
            <a:ext cx="104292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4640" cy="523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144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gilent TT Cond"/>
              </a:rPr>
              <a:t>Click to edit the title text format</a:t>
            </a:r>
            <a:endParaRPr b="1" lang="en-US" sz="2400" spc="-1" strike="noStrike">
              <a:solidFill>
                <a:srgbClr val="0099cc"/>
              </a:solidFill>
              <a:latin typeface="Agilent TT Cond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45080" y="5981760"/>
            <a:ext cx="3319560" cy="691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86200" y="6095880"/>
            <a:ext cx="1447920" cy="538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1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99cc"/>
                </a:solidFill>
                <a:latin typeface="Agilent TT Cond"/>
              </a:rPr>
              <a:t>Click to edit the outline text format</a:t>
            </a:r>
            <a:endParaRPr b="1" lang="en-US" sz="3500" spc="-1" strike="noStrike">
              <a:solidFill>
                <a:srgbClr val="0099cc"/>
              </a:solidFill>
              <a:latin typeface="Agilent TT Cond"/>
            </a:endParaRPr>
          </a:p>
          <a:p>
            <a:pPr lvl="1" indent="0" algn="ctr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algn="ctr">
              <a:lnSpc>
                <a:spcPct val="95000"/>
              </a:lnSpc>
              <a:spcAft>
                <a:spcPts val="1125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3" algn="ctr">
              <a:lnSpc>
                <a:spcPct val="95000"/>
              </a:lnSpc>
              <a:spcAft>
                <a:spcPts val="1125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4" algn="ctr">
              <a:lnSpc>
                <a:spcPct val="95000"/>
              </a:lnSpc>
              <a:spcAft>
                <a:spcPts val="1125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5">
              <a:spcBef>
                <a:spcPts val="45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6">
              <a:spcBef>
                <a:spcPts val="45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144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A Review of existing Multi-Gbps Serial Channel Analysis Methods and the Evolution of the Proposed IBIS ATM Algorithmic Modeling  Standard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5400" y="341280"/>
            <a:ext cx="8235720" cy="13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Ian Dodd, Signal Integrity Market Segment Specialist </a:t>
            </a:r>
            <a:endParaRPr b="1" lang="en-US" sz="1800" spc="-1" strike="noStrike">
              <a:solidFill>
                <a:srgbClr val="0099cc"/>
              </a:solidFill>
              <a:latin typeface="Agilent TT Cond"/>
            </a:endParaRPr>
          </a:p>
          <a:p>
            <a:pPr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Richard Ward, Texas Instruments.</a:t>
            </a:r>
            <a:endParaRPr b="1" lang="en-US" sz="1800" spc="-1" strike="noStrike">
              <a:solidFill>
                <a:srgbClr val="0099cc"/>
              </a:solidFill>
              <a:latin typeface="Agilent TT Cond"/>
            </a:endParaRPr>
          </a:p>
          <a:p>
            <a:pPr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Sanjeev Gupta, SI Product Marketing Manager, Agilent Technologies</a:t>
            </a:r>
            <a:endParaRPr b="1" lang="en-US" sz="1800" spc="-1" strike="noStrike">
              <a:solidFill>
                <a:srgbClr val="0099cc"/>
              </a:solidFill>
              <a:latin typeface="Agilent TT Cond"/>
            </a:endParaRPr>
          </a:p>
          <a:p>
            <a:pPr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4876920"/>
            <a:ext cx="16002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c"/>
                </a:solidFill>
                <a:latin typeface="Agilent TT Cond"/>
              </a:rPr>
              <a:t>IBIS Open Forum, Tokyo,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c"/>
                </a:solidFill>
                <a:latin typeface="Agilent TT Cond"/>
              </a:rPr>
              <a:t>14th Sept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7840" y="6372360"/>
            <a:ext cx="26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99cc"/>
                </a:solidFill>
                <a:latin typeface="Arial"/>
              </a:rPr>
              <a:t>contact: ian_dodd@exch.agilen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37480" y="554184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ffff"/>
                </a:solidFill>
                <a:latin typeface="Arial"/>
              </a:rPr>
              <a:t>(Previously presented at the IBIS Op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ffff"/>
                </a:solidFill>
                <a:latin typeface="Arial"/>
              </a:rPr>
              <a:t>Forum Beijing, China, 11</a:t>
            </a:r>
            <a:r>
              <a:rPr b="0" lang="en-US" sz="800" spc="-1" strike="noStrike" baseline="30000">
                <a:solidFill>
                  <a:srgbClr val="66ffff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66ffff"/>
                </a:solidFill>
                <a:latin typeface="Arial"/>
              </a:rPr>
              <a:t> September 2007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71520" y="274680"/>
            <a:ext cx="8391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Obtaining meaningful data from a limited dataset</a:t>
            </a:r>
            <a:endParaRPr b="1" lang="en-US" sz="26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38040"/>
            <a:ext cx="481968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gilent TT Cond"/>
              </a:rPr>
              <a:t>Random jitter will include low probability events that have a major influence of the overall bit error rates for a channel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Statistical methods allow the full random jitter distribution to be predicted from the results of simulating a channel for a comparatively short number of bit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 figures on the right show the statistical separation of random jitter from the combination of deterministic jitter and random jitter and the subsequent extrapolation of a worst case BER plot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Other statistical methods such as improved importance sampling can achieve a similar result.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Instruments used to do hardware validation of multi-Gbps channels use similar statistical analysis to predict BER from a finite data sample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99" name=""/>
          <p:cNvSpPr/>
          <p:nvPr/>
        </p:nvSpPr>
        <p:spPr>
          <a:xfrm>
            <a:off x="6219720" y="1087560"/>
            <a:ext cx="212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Jitter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38760" y="3392640"/>
            <a:ext cx="1462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Worst Case BER P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905440" y="3633840"/>
            <a:ext cx="2879640" cy="18748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5853240" y="1305000"/>
            <a:ext cx="2914560" cy="190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1296-D302-422D-8030-521BFBCAB7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Observations on circuit and system co-simulation</a:t>
            </a:r>
            <a:endParaRPr b="1" lang="en-US" sz="26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Circuit and system co-simulation allows the behavior of multi-Gbps channels to be modeled to a very high level of accuracy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is includes the accurate modeling of random jitter and the prediction of its effect on the overall BER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t is important to note that there are many sources of random jitter 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As an example, just a few sources of random jitter present in the transmitter include: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-21132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rmal noise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-21132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Jitter in the system clock, 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-21132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Jitter inherent in the clock multiplier PLL design and noise introduced into it from the reference plane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Although this analysis of circuit and system co-simulation concentrates on driver and receiver modeling, it is also essential to also accurately model the interconnect over the full range of frequencies used for signaling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n particular, vias and breakouts if not designed appropriately, will  severely compromise channel reliability.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-21132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3D EM modeling is generally required 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-21132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Decomposition techniques that ignore the significant fringing fields generally produce inadequate result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C0F44-CB55-44ED-81F4-326B5B82CE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Established system level multi-Gbps solutions: StatEye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076040"/>
            <a:ext cx="82296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 StatEye tool was developed during the creation of the Optical Internetworking Forum CEI standard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Original authors: Anthony Sanders and Edoardo Prete of Infine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Available as open source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ncluded as an integral part of compliance testing for multiple high speed channel standard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Provides a fast standardized analysis including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ransmitter FFE and receiver FFE and DFE equalization with automatic optimizati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hannel ISI and crosstalk noise from adjacent chann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Random jitter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omputes output pulse spectrum, bathtub curve and eye diagrams for different BER’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FC385-D8B4-4D96-B891-6FBB0A1A5C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42480" y="274320"/>
            <a:ext cx="774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StatEye Example</a:t>
            </a:r>
            <a:endParaRPr b="1" lang="en-US" sz="2600" spc="-1" strike="noStrike">
              <a:solidFill>
                <a:srgbClr val="0099cc"/>
              </a:solidFill>
              <a:latin typeface="Agilent TT Cond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390840" y="3591000"/>
            <a:ext cx="5295960" cy="24271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37600" y="1057320"/>
            <a:ext cx="307692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gilent TT Cond"/>
              </a:rPr>
              <a:t>Simulation of a representative </a:t>
            </a:r>
            <a:br>
              <a:rPr sz="1600"/>
            </a:br>
            <a:r>
              <a:rPr b="1" lang="en-US" sz="1600" spc="-1" strike="noStrike">
                <a:solidFill>
                  <a:srgbClr val="0099cc"/>
                </a:solidFill>
                <a:latin typeface="Agilent TT Cond"/>
              </a:rPr>
              <a:t>10 Gbps channel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Circuit simulation provides the impulse response of the channel, optionally including crosstalk from adjacent channel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 StatEye module calculates the optimal FFE and DFE coefficient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 BER and statistical eye is then generated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521240" y="884160"/>
            <a:ext cx="4035240" cy="278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CB66-50EB-4A15-8333-55B1D31249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New system level multi-Gbps solutions: IBIS ATM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933480"/>
            <a:ext cx="82296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7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re is a critical need for standardized system level analysis for multi-Gbps channel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Moving forward, we need the ability to model much more complex drivers and receivers than those presently built into StatEye.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Need transmitter and receiver models that are interchangeable between IC vendors as EDA too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Require a standard interface so models can be automatically incorporated into simulation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 IBIS Advanced Technology Modeling working group has proposed a system level simulation framework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Well defined programmatic interfaces to algorithmic transmitter and receiver 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Standardized parameter passing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nitial effort has been to develop fast system level solutions suitable for PCB interactive and batch analysi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is framework and standardized model interface promises to solve many of the current system level simulation issues</a:t>
            </a:r>
            <a:r>
              <a:rPr b="1" lang="en-US" sz="1600" spc="-1" strike="noStrike">
                <a:solidFill>
                  <a:srgbClr val="0099cc"/>
                </a:solidFill>
                <a:latin typeface="Agilent TT Con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At this time, reference models are available and their use in simulations demonstrated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Further details of the progress of the working group will be presented in an separate paper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gilent TT Cond"/>
              </a:rPr>
              <a:t> </a:t>
            </a:r>
            <a:endParaRPr b="1" lang="en-US" sz="13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20897-DF4E-43A5-8684-DD9CF74317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The Standardized Interfaces of the IBIS ATM Algorithmic</a:t>
            </a:r>
            <a:br>
              <a:rPr sz="2600"/>
            </a:b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Transmitter and Receiver Models</a:t>
            </a:r>
            <a:endParaRPr b="1" lang="en-US" sz="2600" spc="-1" strike="noStrike">
              <a:solidFill>
                <a:srgbClr val="0099cc"/>
              </a:solidFill>
              <a:latin typeface="Agilent TT Cond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98400" y="1762200"/>
            <a:ext cx="7794720" cy="37684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489720" y="5332320"/>
            <a:ext cx="189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15120" y="5722920"/>
            <a:ext cx="246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 courtesy of Todd Westerhoff, SiSo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34956-A9FC-4ADB-A48D-38A86ADC65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199800"/>
            <a:ext cx="857268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Observations on the IBIS ATM multi-Gbps proposal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6280" y="747360"/>
            <a:ext cx="8229600" cy="53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26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 IBIS ATM working group proposal offers a flexible solution to system level </a:t>
            </a:r>
            <a:br>
              <a:rPr sz="1800"/>
            </a:b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multi-Gbps modeling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he working group has exhaustively considered alternate approaches and found this to be the most practical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At this time the proposal includes a well defined interface between the simulation framework and the models including parameter passing from the IBIS source file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t took a lot of hard work on behalf of the working group to achieve this result!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A general review of multi-Gbps analysis methods suggests that once the existing proposal is passed it could be further refined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Standardized information as to which sources of jitter are included in the model</a:t>
            </a: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-209160">
              <a:lnSpc>
                <a:spcPct val="90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Allows appropriate statistical post-processing to obtain worst case BER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A standardized approach for including RTL and other system level descriptions into the receiver and transmitter module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-209160">
              <a:lnSpc>
                <a:spcPct val="90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Many IC vendors use RTL to synthesize their silicon design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-209160">
              <a:lnSpc>
                <a:spcPct val="90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 conversion of RTL into ‘C’ or other conventional programming languages would add costs and be a major source of modeling error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-209160">
              <a:lnSpc>
                <a:spcPct val="90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re appear to be few technical obstacles to this extension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0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89790-38ED-4165-B465-2E1641F7ED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gilent TT Cond"/>
              </a:rPr>
              <a:t>Conclusion</a:t>
            </a: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0472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re are a multitude of approaches to multi-Gbps channel analysi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his paper has presented just a few example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IC vendors have historically favored a combination of circuit and system level simulation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PCB system designers have a need to do system level channel analysi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 lack of a standard way of deriving system level models that protect IP from the IC vendors internal models is a major issue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gilent TT Cond"/>
              </a:rPr>
              <a:t>The IBIS ATM working group has made considerable progress in solving this crucial issue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DA1F-443A-412A-8B11-8FA7C37C24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Introduction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The IBIS Advanced Technology Modeling (ATM) committee has a proposal for a flexible approach to system level modeling of multi-Gbps channels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he principal target for this modeling technology is the PCB system designer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Other standards bodies such as the IEEE and INCITS have undertaken major efforts to define standards for multi-Gbps channels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his includes standardized modeling for these channels, principally targeted at the IC designer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This paper contrasts the modeling approaches and shows how the IBIS ATM proposal promises to solve problems not addressed by previous solutions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t also suggests how some of the features of previous approaches could be incorporated into the IBIS ATM proposal at future date.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D940-214B-4302-8EEF-3C6F58C955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56152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Overall goal – Design and implement reliable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1-10Gbps self clocked serial channels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76280" y="1160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The Silicon Vendor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Design Transmitter and Receiver meeting specified channel standard and BER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-209160">
              <a:lnSpc>
                <a:spcPct val="85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Must be interoperable with other vendors designs for that channel standard e.g. 802.3ap and CEI11</a:t>
            </a:r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Simulate Transmitter, Receiver and representative interconnect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reate Prototype silicon and PCB, measure actual performance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-209160">
              <a:lnSpc>
                <a:spcPct val="85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Silicon design must tolerate a range of real PCB channel layouts with connectors, vias and cables</a:t>
            </a:r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orrelate simulation results to measurements to fine tune the modeling proces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The PCB System Implementer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hoose IC vendors and technology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Plan channel implementation: set constraints on layers, lengths, via type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Simulate Transmitter, Receiver with representative interconnect 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Layout channel, re-simulate with accurate modeling of channel 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Fabricate PCB, measure actual performance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orrelate simulation results to measurements to fine tune the modeling proces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76AB8-7078-4D87-840E-F0B0B25C67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5615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Distribution of multi-Gbps models from the IC vendor to the PCB systems implementer</a:t>
            </a:r>
            <a:endParaRPr b="1" lang="en-US" sz="26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6280" y="1093320"/>
            <a:ext cx="8229600" cy="53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In creating models, the IC vendor wishes to satisfy customers while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Protect their intellectual property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Delivery accurate, easy to use models that require a minimum of support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Minimize the incremental cost in providing externally distributed 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 PCB System Implementer has additional preferences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ompatibility of models between IC vendors and support from multiple SI analysis too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Simulation speeds that allow full coverage of a design including corner case analysi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16720" indent="0">
              <a:lnSpc>
                <a:spcPct val="95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is presents new model creation challenges for the IC vendor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Historically many IC vendors internally utilized SPICE to design their general purpose buffer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BIS was the preferred format for model distribution, frequently created from the IC vendors internal SPICE models using SPICE to IBIS utilitie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Some IC vendors preferred to delivered encrypted versions of their internal SPICE models.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oday IC vendors are internally using  a mixture of SPICE, RTL and system level tools to design multi-Gbps buffers and the channel control logic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6619F-847F-4A2B-B58C-01D2C17E49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31760" y="190440"/>
            <a:ext cx="7931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The topology of a typical 6 Gbps serial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67560" y="1665360"/>
            <a:ext cx="93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95280" y="838080"/>
            <a:ext cx="6629400" cy="1676520"/>
            <a:chOff x="1295280" y="838080"/>
            <a:chExt cx="6629400" cy="1676520"/>
          </a:xfrm>
        </p:grpSpPr>
        <p:sp>
          <p:nvSpPr>
            <p:cNvPr id="97" name=""/>
            <p:cNvSpPr/>
            <p:nvPr/>
          </p:nvSpPr>
          <p:spPr>
            <a:xfrm>
              <a:off x="1295280" y="838080"/>
              <a:ext cx="6629400" cy="1676520"/>
            </a:xfrm>
            <a:prstGeom prst="rect">
              <a:avLst/>
            </a:prstGeom>
            <a:solidFill>
              <a:srgbClr val="ffff00">
                <a:alpha val="1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6620040" y="1347480"/>
              <a:ext cx="685800" cy="685800"/>
            </a:xfrm>
            <a:prstGeom prst="flowChartMerg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657520" y="1728360"/>
              <a:ext cx="1628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57800" y="928800"/>
              <a:ext cx="1066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Pre-emphasis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09680" y="1119240"/>
              <a:ext cx="40968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95280" y="1347840"/>
              <a:ext cx="84780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438280" y="1804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81080" y="1195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1080" y="1271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81080" y="13478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1080" y="1424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81080" y="1500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81080" y="1576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81080" y="1652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1728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09680" y="1957320"/>
              <a:ext cx="457200" cy="38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52680" y="218592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66760" y="8431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Serializ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6880" y="1881360"/>
              <a:ext cx="129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Cloc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Multiplier P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95280" y="1785960"/>
              <a:ext cx="84780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Syste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Cl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86160" y="1376280"/>
              <a:ext cx="68580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78160" y="880920"/>
              <a:ext cx="878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Encoding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(8,10 etc)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10080" y="1386000"/>
              <a:ext cx="6858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24480" y="92880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095880" y="1662120"/>
              <a:ext cx="53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1119240"/>
              <a:ext cx="6858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7600" y="1271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1271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886200" y="1566360"/>
              <a:ext cx="3906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38600" y="85248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Training patter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71960" y="1654200"/>
              <a:ext cx="45720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62520" y="20574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66"/>
                  </a:solidFill>
                  <a:latin typeface="Agilent TT Cond"/>
                </a:rPr>
                <a:t>Transmit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15200" y="1676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581360" y="2495520"/>
            <a:ext cx="9720" cy="34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629240" y="3819600"/>
            <a:ext cx="9360" cy="32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95280" y="2819520"/>
            <a:ext cx="6629400" cy="1190160"/>
            <a:chOff x="1295280" y="2819520"/>
            <a:chExt cx="6629400" cy="1190160"/>
          </a:xfrm>
        </p:grpSpPr>
        <p:sp>
          <p:nvSpPr>
            <p:cNvPr id="133" name=""/>
            <p:cNvSpPr/>
            <p:nvPr/>
          </p:nvSpPr>
          <p:spPr>
            <a:xfrm>
              <a:off x="1477800" y="3048120"/>
              <a:ext cx="63504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95280" y="2819520"/>
              <a:ext cx="6629400" cy="990360"/>
            </a:xfrm>
            <a:prstGeom prst="rect">
              <a:avLst/>
            </a:prstGeom>
            <a:solidFill>
              <a:srgbClr val="ffff00">
                <a:alpha val="1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20840" y="3048120"/>
              <a:ext cx="4446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79560" y="3048120"/>
              <a:ext cx="6336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22600" y="3048120"/>
              <a:ext cx="6336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n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4200" y="3048120"/>
              <a:ext cx="63468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98960" y="3048120"/>
              <a:ext cx="44316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48520" y="3048120"/>
              <a:ext cx="63324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098800" y="3276720"/>
              <a:ext cx="12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655720" y="3276720"/>
              <a:ext cx="127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398760" y="3276720"/>
              <a:ext cx="127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141800" y="3276720"/>
              <a:ext cx="12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883040" y="3276720"/>
              <a:ext cx="127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442120" y="3276720"/>
              <a:ext cx="12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3429000"/>
              <a:ext cx="16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66"/>
                  </a:solidFill>
                  <a:latin typeface="Agilent TT Cond"/>
                </a:rPr>
                <a:t>Physical Cha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55760" y="327672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53200" y="327672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67280" y="3505320"/>
              <a:ext cx="1903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gilent TT Cond"/>
                </a:rPr>
                <a:t>Neighboring channels not show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95840" y="3048120"/>
              <a:ext cx="6336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72360" y="3048120"/>
              <a:ext cx="63504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C blocking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apaci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29360" y="327672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05880" y="3276720"/>
              <a:ext cx="11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152360" y="4143240"/>
            <a:ext cx="6972480" cy="1900800"/>
            <a:chOff x="1152360" y="4143240"/>
            <a:chExt cx="6972480" cy="1900800"/>
          </a:xfrm>
        </p:grpSpPr>
        <p:sp>
          <p:nvSpPr>
            <p:cNvPr id="156" name=""/>
            <p:cNvSpPr/>
            <p:nvPr/>
          </p:nvSpPr>
          <p:spPr>
            <a:xfrm>
              <a:off x="1284120" y="4152960"/>
              <a:ext cx="6699240" cy="1752480"/>
            </a:xfrm>
            <a:prstGeom prst="rect">
              <a:avLst/>
            </a:prstGeom>
            <a:solidFill>
              <a:srgbClr val="ffff00">
                <a:alpha val="1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68400" y="5591160"/>
              <a:ext cx="83664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97360" y="4753080"/>
              <a:ext cx="67788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19520" y="4295880"/>
              <a:ext cx="1122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Equalization</a:t>
              </a:r>
              <a:br>
                <a:rPr sz="1200"/>
              </a:br>
              <a:r>
                <a:rPr b="1" lang="en-US" sz="900" spc="-1" strike="noStrike">
                  <a:solidFill>
                    <a:srgbClr val="000000"/>
                  </a:solidFill>
                  <a:latin typeface="Agilent TT Cond"/>
                </a:rPr>
                <a:t>FFE, DF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53000" y="4753080"/>
              <a:ext cx="67788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5057640"/>
              <a:ext cx="9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76640" y="4448160"/>
              <a:ext cx="18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Clock / Data Reco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07080" y="4753080"/>
              <a:ext cx="67788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15880" y="5133960"/>
              <a:ext cx="15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7560" y="4448160"/>
              <a:ext cx="67788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460044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20800" y="4600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620800" y="4896000"/>
              <a:ext cx="38592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120" y="4181400"/>
              <a:ext cx="120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Training patter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25600" y="5638680"/>
              <a:ext cx="95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09760" y="5400720"/>
              <a:ext cx="838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System Cl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81400" y="5438880"/>
              <a:ext cx="45216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5120" y="5619600"/>
              <a:ext cx="23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Clock Multiplier P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52360" y="4933800"/>
              <a:ext cx="8366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484960" y="5067000"/>
              <a:ext cx="936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3338640" y="5372280"/>
              <a:ext cx="288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43320" y="5510160"/>
              <a:ext cx="38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61160" y="4676760"/>
              <a:ext cx="40320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6534000" y="5209920"/>
              <a:ext cx="504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34000" y="5210280"/>
              <a:ext cx="2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84960" y="505764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30880" y="505764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4448160"/>
              <a:ext cx="89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Deco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24640" y="4371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De-Serializ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11880" y="475308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11880" y="482904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11880" y="490536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11880" y="498168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11880" y="505764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11880" y="513396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11880" y="521028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11880" y="528624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8200" y="4829040"/>
              <a:ext cx="8366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34120" y="5362560"/>
              <a:ext cx="84780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Recove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Cl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10040" y="41432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66"/>
                  </a:solidFill>
                  <a:latin typeface="Agilent TT Cond"/>
                </a:rPr>
                <a:t>Rece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51200" y="5648400"/>
              <a:ext cx="2139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991040" y="5376960"/>
              <a:ext cx="468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0B2D0-137A-4E72-9A60-52A1C7180C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5615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Agilent TT Cond"/>
              </a:rPr>
              <a:t>Approaches to multi-Gbps simulation</a:t>
            </a:r>
            <a:endParaRPr b="1" lang="en-US" sz="30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6280" y="845640"/>
            <a:ext cx="8229600" cy="56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5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Transistor and circuit level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Drivers and receivers are modeled using SPICE, IBIS and SPICE macro-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Packages and interconnect are modeled using transmission line and ‘S’ parameter 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Minimize the incremental cost in providing externally distributed 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Good accuracy but poor simulation speed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85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Circuit and system level co-simulation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Drivers and receivers are modeled using IBIS and SPICE macro-models co-simulating with RTL, Verilog AMS, VHDL-AMS, System-C, Proprietary ‘C’ or ‘C++” and system level simulation tools.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Packages and interconnect are modeled using impulse response, transmission line and S- parameter 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Good accuracy and moderate simulation speed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21400" indent="0">
              <a:lnSpc>
                <a:spcPct val="85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System level simulation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Drivers and receivers are modeled using RTL, Verilog AMS, VHDL-AMS, System-C, Proprietary ‘C’ or ‘C++” and system level simulation tools.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hannels are characterized using impulse response or S-parameter 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Moderate Accuracy with good simulation speed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5AD27-62ED-4073-91BE-D6BD13F735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76280" y="2685960"/>
            <a:ext cx="5124600" cy="2057400"/>
          </a:xfrm>
          <a:prstGeom prst="rec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4200" y="736560"/>
            <a:ext cx="7385040" cy="1676520"/>
          </a:xfrm>
          <a:prstGeom prst="rec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9520" y="152280"/>
            <a:ext cx="8712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Circuit and system level co-simulation of a multi-Gbps chan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52600" y="1131840"/>
            <a:ext cx="4572000" cy="311148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lvl="1" marL="1440" indent="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2943360" y="1395000"/>
            <a:ext cx="685800" cy="68580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90640" y="1741320"/>
            <a:ext cx="23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33640" y="1541520"/>
            <a:ext cx="2590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639960" y="1727280"/>
            <a:ext cx="17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74080" y="852480"/>
            <a:ext cx="286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Package, Breakout, Traces and Via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c S-Parameter Models from 3D Field So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6681960" y="1383840"/>
            <a:ext cx="685800" cy="68580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48320" y="172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62280" y="781200"/>
            <a:ext cx="13716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Analo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Non-linear 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33800" y="811080"/>
            <a:ext cx="10324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Analo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Non-lin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(Load Sec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1840" y="3565440"/>
            <a:ext cx="9302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62080" y="326556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95320" y="2776680"/>
            <a:ext cx="1122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Equalization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gilent TT Cond"/>
              </a:rPr>
              <a:t>FFE, DF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28760" y="326556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47880" y="3570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19520" y="2754360"/>
            <a:ext cx="132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Clock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82080" y="4094280"/>
            <a:ext cx="109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hased Lock Lo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95800" y="326556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07520" y="278604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Data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14560" y="37227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067200" y="4019400"/>
            <a:ext cx="236052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000160" y="3112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00160" y="3112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67200" y="3112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67200" y="3417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954600" y="3560760"/>
            <a:ext cx="147312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70520" y="3249720"/>
            <a:ext cx="54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56120" y="371484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67200" y="37227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5040" y="4084560"/>
            <a:ext cx="166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High Speed Window sampl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67560" y="1665360"/>
            <a:ext cx="93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68400" y="860400"/>
            <a:ext cx="106704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Encoding</a:t>
            </a:r>
            <a:br>
              <a:rPr sz="11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(8,10…)</a:t>
            </a:r>
            <a:br>
              <a:rPr sz="900"/>
            </a:b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Pre-emph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ircuit Simulation (Non-lin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4343400"/>
            <a:ext cx="392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System Level or Behavioral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Co-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235560" y="3057480"/>
            <a:ext cx="2446560" cy="1540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356520" y="2754360"/>
            <a:ext cx="2361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Recovered Data Eye Diagram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gilent TT Cond"/>
              </a:rPr>
              <a:t>(includes periodic and random jitte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5181480"/>
            <a:ext cx="3124080" cy="990720"/>
          </a:xfrm>
          <a:prstGeom prst="rec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5486400"/>
            <a:ext cx="2971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Random Noise Extrap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BER and Jitter Plot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383600" y="1727280"/>
            <a:ext cx="684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04840" y="143676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" y="765000"/>
            <a:ext cx="847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Stimulus</a:t>
            </a:r>
            <a:r>
              <a:rPr b="1" lang="en-US" sz="1100" spc="-1" strike="noStrike">
                <a:solidFill>
                  <a:srgbClr val="000000"/>
                </a:solidFill>
                <a:latin typeface="Agilent TT Cond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9240" y="4799160"/>
            <a:ext cx="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662440" y="3798360"/>
            <a:ext cx="536760" cy="18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5715000"/>
            <a:ext cx="19274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3240" y="1274760"/>
            <a:ext cx="685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3240" y="1893960"/>
            <a:ext cx="685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6280" y="1665360"/>
            <a:ext cx="98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Random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12800" y="1631880"/>
            <a:ext cx="228600" cy="228600"/>
          </a:xfrm>
          <a:prstGeom prst="flowChar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52560" y="1741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14360" y="1494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14360" y="2084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71680" y="1741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67000" y="1460520"/>
            <a:ext cx="468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7840" y="912960"/>
            <a:ext cx="139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cluding training pattern, periodic j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200" y="2577960"/>
            <a:ext cx="784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072280" y="1741320"/>
            <a:ext cx="5040" cy="8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1840" y="2587680"/>
            <a:ext cx="0" cy="9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41440" y="135252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jacent channels not show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477120" y="4800600"/>
            <a:ext cx="2144520" cy="1405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7010280" y="4572000"/>
            <a:ext cx="1067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Jitter/BER Pl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10200" y="321948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10200" y="321948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2000" y="2800440"/>
            <a:ext cx="75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0,8…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5720" y="4218120"/>
            <a:ext cx="685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0120" y="3790800"/>
            <a:ext cx="799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6840" y="442764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486080" y="3903840"/>
            <a:ext cx="9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6B91-AAD3-4F46-B56E-97584808CC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6992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Circuit and system level co-simulation</a:t>
            </a: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 </a:t>
            </a:r>
            <a:endParaRPr b="1" lang="en-US" sz="20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0600" y="80964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Introduction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Presently favored by IC vendors for internal use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Explicitly implemented as co-simulation between a circuit level and system level simulator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mplicitly implemented as structural and behavioral modules in a AMS/SPICE simulati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he number of nodes in the circuit simulation generally governs simulation performance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07360" indent="-204480">
              <a:lnSpc>
                <a:spcPct val="95000"/>
              </a:lnSpc>
              <a:spcBef>
                <a:spcPts val="176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For best results use IBIS or behavioral models for the analog portion of buffer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t is critical to choose a tool with fast and accurate S-parameter simulati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Major Benefit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an use the primary models used to design the silic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an include channel protocol logic e.g. training patterns in original design language e.g. RTL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Supports non-linear drivers and loads with complex random jitter source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Disadvantage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No standard interface between the models and the simulator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07360" indent="-204480">
              <a:lnSpc>
                <a:spcPct val="95000"/>
              </a:lnSpc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Can an extension to the IBIS ATM proposal be used to solve this issue?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Waiting for IEEE standardized HDL encrypti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6F052-11CE-41AC-91D2-8E875B0E89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160200"/>
            <a:ext cx="78958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Example of circuit and system co-simulation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683240" y="843120"/>
            <a:ext cx="3852720" cy="252540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314280" y="3467160"/>
            <a:ext cx="8329680" cy="2818080"/>
            <a:chOff x="314280" y="3467160"/>
            <a:chExt cx="8329680" cy="2818080"/>
          </a:xfrm>
        </p:grpSpPr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6002280" y="3762360"/>
              <a:ext cx="2641680" cy="15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314280" y="3776760"/>
              <a:ext cx="2638440" cy="15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3168720" y="3757680"/>
              <a:ext cx="2644560" cy="15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5"/>
            <a:stretch/>
          </p:blipFill>
          <p:spPr>
            <a:xfrm>
              <a:off x="476280" y="5424480"/>
              <a:ext cx="103500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6"/>
            <a:stretch/>
          </p:blipFill>
          <p:spPr>
            <a:xfrm>
              <a:off x="1709640" y="5438880"/>
              <a:ext cx="107496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7"/>
            <a:stretch/>
          </p:blipFill>
          <p:spPr>
            <a:xfrm>
              <a:off x="3394080" y="5434200"/>
              <a:ext cx="10144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8"/>
            <a:stretch/>
          </p:blipFill>
          <p:spPr>
            <a:xfrm>
              <a:off x="4591080" y="5434200"/>
              <a:ext cx="105732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6224400" y="5438880"/>
              <a:ext cx="100332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10"/>
            <a:stretch/>
          </p:blipFill>
          <p:spPr>
            <a:xfrm>
              <a:off x="7443720" y="5438880"/>
              <a:ext cx="102708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071800" y="571500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cc"/>
                  </a:solidFill>
                  <a:latin typeface="Arial"/>
                </a:rPr>
                <a:t>DF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2880" y="571500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cc"/>
                  </a:solidFill>
                  <a:latin typeface="Arial"/>
                </a:rPr>
                <a:t>DF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86800" y="57247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cc"/>
                  </a:solidFill>
                  <a:latin typeface="Arial"/>
                </a:rPr>
                <a:t>DF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5880" y="57247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cc"/>
                  </a:solidFill>
                  <a:latin typeface="Arial"/>
                </a:rPr>
                <a:t>FF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33920" y="572940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cc"/>
                  </a:solidFill>
                  <a:latin typeface="Arial"/>
                </a:rPr>
                <a:t>FF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39040" y="57247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cc"/>
                  </a:solidFill>
                  <a:latin typeface="Arial"/>
                </a:rPr>
                <a:t>FF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04840" y="3476880"/>
              <a:ext cx="116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itial Ey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00360" y="34671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ye after trai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29280" y="3486240"/>
              <a:ext cx="260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ye after modified stimul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86040" y="6010560"/>
              <a:ext cx="185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FE and DFE coeffici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62800" y="6010560"/>
              <a:ext cx="1857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FE and DFE coeffici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8080" y="6039000"/>
              <a:ext cx="185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FE and DFE coeffici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14280" y="914400"/>
            <a:ext cx="420048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gilent TT Cond"/>
              </a:rPr>
              <a:t>Simulation of a representative 10 Gbps channel with initial training and dynamic equalizati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3000 bit training sequence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 initial eye is completely closed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 FFE and DFE coefficients can be seen to change as a function of the stimulus 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Environmental variables such as supply voltage, temperature and humidity will also affect coefficient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AFDB8-AD27-4D32-B847-FBA4771685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an dodd</cp:lastModifiedBy>
  <dcterms:modified xsi:type="dcterms:W3CDTF">2007-08-24T06:17:02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